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855A7-5DD3-46D9-BD5E-97F1347C0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3D363-DC52-483D-98EC-DDC32BCE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83ADC-EAF4-4BB8-9E38-720A4562C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4CBDD-4E24-4ACA-8556-24BC6503F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4B811-9B89-4EE3-977C-35724FD6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0196B-E908-4553-9E1F-D4FBB4F45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0C1C-2F45-4331-9CE9-F6992D23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F680-3B9B-4FC4-AB7E-23F885FA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179B-8D16-40C1-8B65-0A4B4A55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F26E-A1FD-437E-8950-ED46F7558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72DF-EF8D-40C4-8585-3D44183A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7BAC-1E01-4271-A2E6-01E444492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82C0-CEA4-4EB1-991E-5C6F955E3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تاس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مريم/الآيات</a:t>
            </a:r>
            <a:r>
              <a:rPr b="0" lang="en-US" sz="3200" spc="-1" strike="noStrike">
                <a:solidFill>
                  <a:srgbClr val="000000"/>
                </a:solidFill>
                <a:latin typeface="Times New Roman"/>
              </a:rPr>
              <a:t>77</a:t>
            </a:r>
            <a:r>
              <a:rPr b="0" lang="en-US" sz="3200" spc="-1" strike="noStrike">
                <a:solidFill>
                  <a:srgbClr val="000000"/>
                </a:solidFill>
                <a:latin typeface="Times New Roman"/>
              </a:rPr>
              <a:t>-</a:t>
            </a:r>
            <a:r>
              <a:rPr b="0" lang="en-US" sz="3200" spc="-1" strike="noStrike">
                <a:solidFill>
                  <a:srgbClr val="000000"/>
                </a:solidFill>
                <a:latin typeface="Times New Roman"/>
              </a:rPr>
              <a:t>8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52280" y="762120"/>
            <a:ext cx="8763120" cy="57909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طلع الغيب ، ونمد له من العذاب مداً ، ليكونوا لهم عزاً ، ضداً ، أزاً ، وفداً ، ورد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ما سبب نزول هذه الآيات؟</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ما عاقبة من لم يعتصم بالله ، ويهتدي بهداه ، ويتمسك بحبله؟ مع الدليل.</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بينت الآيات حال المتقين والمجرمين في يوم القيامة ، وضح ذلك.</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304560" y="1218960"/>
            <a:ext cx="84582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أَفَرَأَيْتَ الَّذِي كَفَرَ بِآَيَاتِنَا وَقَالَ لَأُوتَيَنَّ مَالًا وَوَلَدًا (</a:t>
            </a:r>
            <a:r>
              <a:rPr b="0" lang="ar-SA" sz="3200" spc="-1" strike="noStrike">
                <a:solidFill>
                  <a:srgbClr val="000000"/>
                </a:solidFill>
                <a:latin typeface="Times New Roman"/>
                <a:ea typeface="Traditional Arabic"/>
              </a:rPr>
              <a:t>77</a:t>
            </a:r>
            <a:r>
              <a:rPr b="0" lang="ar-SA" sz="3200" spc="-1" strike="noStrike">
                <a:solidFill>
                  <a:srgbClr val="000000"/>
                </a:solidFill>
                <a:latin typeface="Times New Roman"/>
                <a:ea typeface="Traditional Arabic"/>
              </a:rPr>
              <a:t>) أَطَّلَعَ الْغَيْبَ أَمِ اتَّخَذَ عِنْدَ الرَّحْمَنِ عَهْدًا (</a:t>
            </a:r>
            <a:r>
              <a:rPr b="0" lang="ar-SA" sz="3200" spc="-1" strike="noStrike">
                <a:solidFill>
                  <a:srgbClr val="000000"/>
                </a:solidFill>
                <a:latin typeface="Times New Roman"/>
                <a:ea typeface="Traditional Arabic"/>
              </a:rPr>
              <a:t>78</a:t>
            </a:r>
            <a:r>
              <a:rPr b="0" lang="ar-SA" sz="3200" spc="-1" strike="noStrike">
                <a:solidFill>
                  <a:srgbClr val="000000"/>
                </a:solidFill>
                <a:latin typeface="Times New Roman"/>
                <a:ea typeface="Traditional Arabic"/>
              </a:rPr>
              <a:t>) كَلَّا سَنَكْتُبُ مَا يَقُولُ وَنَمُدُّ لَهُ مِنَ الْعَذَابِ مَدًّا (</a:t>
            </a:r>
            <a:r>
              <a:rPr b="0" lang="ar-SA" sz="3200" spc="-1" strike="noStrike">
                <a:solidFill>
                  <a:srgbClr val="000000"/>
                </a:solidFill>
                <a:latin typeface="Times New Roman"/>
                <a:ea typeface="Traditional Arabic"/>
              </a:rPr>
              <a:t>79</a:t>
            </a:r>
            <a:r>
              <a:rPr b="0" lang="ar-SA" sz="3200" spc="-1" strike="noStrike">
                <a:solidFill>
                  <a:srgbClr val="000000"/>
                </a:solidFill>
                <a:latin typeface="Times New Roman"/>
                <a:ea typeface="Traditional Arabic"/>
              </a:rPr>
              <a:t>) وَنَرِثُهُ مَا يَقُولُ وَيَأْتِينَا فَرْدًا (</a:t>
            </a:r>
            <a:r>
              <a:rPr b="0" lang="ar-SA" sz="3200" spc="-1" strike="noStrike">
                <a:solidFill>
                  <a:srgbClr val="000000"/>
                </a:solidFill>
                <a:latin typeface="Times New Roman"/>
                <a:ea typeface="Traditional Arabic"/>
              </a:rPr>
              <a:t>80</a:t>
            </a:r>
            <a:r>
              <a:rPr b="0" lang="ar-SA" sz="3200" spc="-1" strike="noStrike">
                <a:solidFill>
                  <a:srgbClr val="000000"/>
                </a:solidFill>
                <a:latin typeface="Times New Roman"/>
                <a:ea typeface="Traditional Arabic"/>
              </a:rPr>
              <a:t>) وَاتَّخَذُوا مِنْ دُونِ اللَّهِ آَلِهَةً لِيَكُونُوا لَهُمْ عِزًّا (</a:t>
            </a:r>
            <a:r>
              <a:rPr b="0" lang="ar-SA" sz="3200" spc="-1" strike="noStrike">
                <a:solidFill>
                  <a:srgbClr val="000000"/>
                </a:solidFill>
                <a:latin typeface="Times New Roman"/>
                <a:ea typeface="Traditional Arabic"/>
              </a:rPr>
              <a:t>81</a:t>
            </a:r>
            <a:r>
              <a:rPr b="0" lang="ar-SA" sz="3200" spc="-1" strike="noStrike">
                <a:solidFill>
                  <a:srgbClr val="000000"/>
                </a:solidFill>
                <a:latin typeface="Times New Roman"/>
                <a:ea typeface="Traditional Arabic"/>
              </a:rPr>
              <a:t>) كَلَّا سَيَكْفُرُونَ بِعِبَادَتِهِمْ وَيَكُونُونَ عَلَيْهِمْ ضِدًّا (</a:t>
            </a:r>
            <a:r>
              <a:rPr b="0" lang="ar-SA" sz="3200" spc="-1" strike="noStrike">
                <a:solidFill>
                  <a:srgbClr val="000000"/>
                </a:solidFill>
                <a:latin typeface="Times New Roman"/>
                <a:ea typeface="Traditional Arabic"/>
              </a:rPr>
              <a:t>82</a:t>
            </a:r>
            <a:r>
              <a:rPr b="0" lang="ar-SA" sz="3200" spc="-1" strike="noStrike">
                <a:solidFill>
                  <a:srgbClr val="000000"/>
                </a:solidFill>
                <a:latin typeface="Times New Roman"/>
                <a:ea typeface="Traditional Arabic"/>
              </a:rPr>
              <a:t>) أَلَمْ تَرَ أَنَّا أَرْسَلْنَا الشَّيَاطِينَ عَلَى الْكَافِرِينَ تَؤُزُّهُمْ أَزًّا (</a:t>
            </a:r>
            <a:r>
              <a:rPr b="0" lang="ar-SA" sz="3200" spc="-1" strike="noStrike">
                <a:solidFill>
                  <a:srgbClr val="000000"/>
                </a:solidFill>
                <a:latin typeface="Times New Roman"/>
                <a:ea typeface="Traditional Arabic"/>
              </a:rPr>
              <a:t>83</a:t>
            </a:r>
            <a:r>
              <a:rPr b="0" lang="ar-SA" sz="3200" spc="-1" strike="noStrike">
                <a:solidFill>
                  <a:srgbClr val="000000"/>
                </a:solidFill>
                <a:latin typeface="Times New Roman"/>
                <a:ea typeface="Traditional Arabic"/>
              </a:rPr>
              <a:t>) فَلَا تَعْجَلْ عَلَيْهِمْ إِنَّمَا نَعُدُّ لَهُمْ عَدًّا (</a:t>
            </a:r>
            <a:r>
              <a:rPr b="0" lang="ar-SA" sz="3200" spc="-1" strike="noStrike">
                <a:solidFill>
                  <a:srgbClr val="000000"/>
                </a:solidFill>
                <a:latin typeface="Times New Roman"/>
                <a:ea typeface="Traditional Arabic"/>
              </a:rPr>
              <a:t>84</a:t>
            </a:r>
            <a:r>
              <a:rPr b="0" lang="ar-SA" sz="3200" spc="-1" strike="noStrike">
                <a:solidFill>
                  <a:srgbClr val="000000"/>
                </a:solidFill>
                <a:latin typeface="Times New Roman"/>
                <a:ea typeface="Traditional Arabic"/>
              </a:rPr>
              <a:t>) يَوْمَ نَحْشُرُ الْمُتَّقِينَ إِلَى الرَّحْمَنِ وَفْدًا (</a:t>
            </a:r>
            <a:r>
              <a:rPr b="0" lang="ar-SA" sz="3200" spc="-1" strike="noStrike">
                <a:solidFill>
                  <a:srgbClr val="000000"/>
                </a:solidFill>
                <a:latin typeface="Times New Roman"/>
                <a:ea typeface="Traditional Arabic"/>
              </a:rPr>
              <a:t>85</a:t>
            </a:r>
            <a:r>
              <a:rPr b="0" lang="ar-SA" sz="3200" spc="-1" strike="noStrike">
                <a:solidFill>
                  <a:srgbClr val="000000"/>
                </a:solidFill>
                <a:latin typeface="Times New Roman"/>
                <a:ea typeface="Traditional Arabic"/>
              </a:rPr>
              <a:t>) وَنَسُوقُ الْمُجْرِمِينَ إِلَى جَهَنَّمَ وِرْدًا (</a:t>
            </a:r>
            <a:r>
              <a:rPr b="0" lang="ar-SA" sz="3200" spc="-1" strike="noStrike">
                <a:solidFill>
                  <a:srgbClr val="000000"/>
                </a:solidFill>
                <a:latin typeface="Times New Roman"/>
                <a:ea typeface="Traditional Arabic"/>
              </a:rPr>
              <a:t>86</a:t>
            </a:r>
            <a:r>
              <a:rPr b="0" lang="ar-SA" sz="3200" spc="-1" strike="noStrike">
                <a:solidFill>
                  <a:srgbClr val="000000"/>
                </a:solidFill>
                <a:latin typeface="Times New Roman"/>
                <a:ea typeface="Traditional Arabic"/>
              </a:rPr>
              <a:t>) لَا يَمْلِكُونَ الشَّفَاعَةَ إِلَّا مَنِ اتَّخَذَ عِنْدَ الرَّحْمَنِ عَهْدًا (</a:t>
            </a:r>
            <a:r>
              <a:rPr b="0" lang="ar-SA" sz="3200" spc="-1" strike="noStrike">
                <a:solidFill>
                  <a:srgbClr val="000000"/>
                </a:solidFill>
                <a:latin typeface="Times New Roman"/>
                <a:ea typeface="Traditional Arabic"/>
              </a:rPr>
              <a:t>87</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سبب نزول الآيات:</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228600" y="1219320"/>
            <a:ext cx="87631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روى البخاري ومسلم من حديث مسروق عن خباب بن الأرت </a:t>
            </a:r>
            <a:r>
              <a:rPr b="0" lang="ar-SA" sz="4000" spc="-1" strike="noStrike">
                <a:solidFill>
                  <a:srgbClr val="000000"/>
                </a:solidFill>
                <a:latin typeface="AGA Arabesque"/>
                <a:ea typeface="AGA Arabesque"/>
              </a:rPr>
              <a:t></a:t>
            </a:r>
            <a:r>
              <a:rPr b="0" lang="ar-SA" sz="3200" spc="-1" strike="noStrike">
                <a:solidFill>
                  <a:srgbClr val="000000"/>
                </a:solidFill>
                <a:latin typeface="Arial"/>
              </a:rPr>
              <a:t>قال : كنت قيناً((أي حداداً)) وكان لي على العاص بن وائل دين فأتيه أتقاضاه فقال : لا والله لا أقضيك حتى تكفر بمحمد فقلت : لا والله لا أكفر بمحمد </a:t>
            </a:r>
            <a:r>
              <a:rPr b="0" lang="ar-SA" sz="4000" spc="-1" strike="noStrike">
                <a:solidFill>
                  <a:srgbClr val="000000"/>
                </a:solidFill>
                <a:latin typeface="AGA Arabesque"/>
                <a:ea typeface="AGA Arabesque"/>
              </a:rPr>
              <a:t></a:t>
            </a:r>
            <a:r>
              <a:rPr b="0" lang="ar-SA" sz="4000" spc="-1" strike="noStrike">
                <a:solidFill>
                  <a:srgbClr val="000000"/>
                </a:solidFill>
                <a:latin typeface="Arial"/>
                <a:ea typeface="Arial"/>
              </a:rPr>
              <a:t> </a:t>
            </a:r>
            <a:r>
              <a:rPr b="0" lang="ar-SA" sz="3200" spc="-1" strike="noStrike">
                <a:solidFill>
                  <a:srgbClr val="000000"/>
                </a:solidFill>
                <a:latin typeface="Arial"/>
                <a:cs typeface="Arial"/>
              </a:rPr>
              <a:t>حتى تموت ثم تبعث. قال: فإني إذا مت ثم بعثت جئتني ولي مال وولد فأعيتك؛ فنزلت هذه الآية إلى قوله تعالى((</a:t>
            </a:r>
            <a:r>
              <a:rPr b="0" lang="ar-SA" sz="3200" spc="-1" strike="noStrike">
                <a:solidFill>
                  <a:srgbClr val="000000"/>
                </a:solidFill>
                <a:latin typeface="Times New Roman"/>
                <a:cs typeface="Traditional Arabic"/>
              </a:rPr>
              <a:t>فَرْدًا </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5192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8" name=""/>
          <p:cNvGraphicFramePr/>
          <p:nvPr/>
        </p:nvGraphicFramePr>
        <p:xfrm>
          <a:off x="228600" y="1066680"/>
          <a:ext cx="8763120" cy="563868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ـ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2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حاط عمله بالغيب حتى علم ما يكون، وأن من  جملة ما يكون أنه  يؤتي يوم القيامة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أن عمل صالحاً، فكان له بذلك عند الله  عهد أن يؤتيه ما يدعي من المال وال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لم يطلع الغيب، ولم يتخذ عند الله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حفظ ع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أوتين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طلع الغي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اتخذ عند الرحمن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كتب</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152280"/>
          <a:ext cx="8763120" cy="6400800"/>
        </p:xfrm>
        <a:graphic>
          <a:graphicData uri="http://schemas.openxmlformats.org/drawingml/2006/table">
            <a:tbl>
              <a:tblPr/>
              <a:tblGrid>
                <a:gridCol w="4381560"/>
                <a:gridCol w="4381560"/>
              </a:tblGrid>
              <a:tr h="7204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زيده عذاباً فوق العذاب، وقيل: نطيل مدة عذا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سلبه المال والولد ونجعله لغير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ا مال ولا 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عة،حتى يكونوا لهم شفعاء يمنعونهم من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ناهم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حركهم وتحثهم عل المعاص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جعل بطلب عقوب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ؤخرهم لأجل معدود ثم هم صائرون لا محالة إلى عذاب الله ونك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مد له من العذاب م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رثه ما يقو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أتينا ف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كونوا لهم ع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م تر أنا أرسلنا الشياطين على 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ؤزهم أ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جعل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عد لهم ع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50"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كب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طاش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شفعون ولا يشفع 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إنه يملك الشفاعة، والعهد هنا: توحيد الله والإيمان به.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حمن وف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سوق المجر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جهنم و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ملكون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من اتخذ عند الرحمن عه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2"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ناعة  مقالة هذا الكافر و جرأته على الله حيث مع بين كفره بآيات الله ودعواه الكبيرة أنه سيؤتى في الآخرة مالاً وولداً، أي أنه يكون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ية الكريمة: ((</a:t>
            </a:r>
            <a:r>
              <a:rPr b="0" lang="hi-IN" sz="3200" spc="-1" strike="noStrike">
                <a:solidFill>
                  <a:srgbClr val="000000"/>
                </a:solidFill>
                <a:latin typeface="Times New Roman"/>
                <a:cs typeface="Traditional Arabic"/>
              </a:rPr>
              <a:t>أَفَرَأَيْتَ الَّذِي كَفَرَ </a:t>
            </a:r>
            <a:r>
              <a:rPr b="0" lang="en-US" sz="3200" spc="-1" strike="noStrike">
                <a:solidFill>
                  <a:srgbClr val="000000"/>
                </a:solidFill>
                <a:latin typeface="Times New Roman"/>
              </a:rPr>
              <a:t>)) وإن كانت نازلة في كافر معين فإنها تشمل كل كافر زعم أنه على الحق وأنه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ذي يزعم أنه حاصل له خير عند الله في الآخرة لا يخلو إما أن يكون قوله صادراً عن علم بالغيب، أو متخذاً عهداً عند الله،ولم يحصل له واحد منهما فيكون قوله دعوى لا برهان عليها.</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ة تعالى: ((</a:t>
            </a:r>
            <a:r>
              <a:rPr b="0" lang="hi-IN" sz="3200" spc="-1" strike="noStrike">
                <a:solidFill>
                  <a:srgbClr val="000000"/>
                </a:solidFill>
                <a:latin typeface="Times New Roman"/>
                <a:cs typeface="Traditional Arabic"/>
              </a:rPr>
              <a:t>كَلَّا سَنَكْتُبُ مَا يَقُولُ </a:t>
            </a:r>
            <a:r>
              <a:rPr b="0" lang="en-US" sz="3200" spc="-1" strike="noStrike">
                <a:solidFill>
                  <a:srgbClr val="000000"/>
                </a:solidFill>
                <a:latin typeface="Times New Roman"/>
              </a:rPr>
              <a:t>)) رد على من ادعى علم الغيب أو اتخاذ العهد عند الله وأن قوله مكتوب عليه وأنه سيزاد ويضاعف له في العذاب كما زاد في الافتراء والباطل، وأن ماله وولده سيسلبان منه عكس ما ظن أنه يؤتى في الدار الآخرة مالاً وولداً بل في الآخرة يسلب منه الذي كان له في الدنيا فيأتي فرداً لا مال له ولا ولد.</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آلهة التي اتخذها المشركون وعبدوها من دون الله ليعتزوا بها في الدنيا، ويجعلوها شفعاء عند الله في الآخرة ستجحد عبادتهم، وتكون لهم خصماً وضداً خلاف ما رجوا منها وأملوا فيها.</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اقب الله الكافرين الذين لم يعتصموا به يتمسكوا بحبله وأشركوا به بأن سلط عليهم الشياطين تؤزرهم أزا، وتوسوس لهم، وتزين لهم الباطل، وتصدقهم عن الح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6000"/>
          </a:bodyPr>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سلية الرسول </a:t>
            </a:r>
            <a:r>
              <a:rPr b="0" lang="en-US" sz="4000" spc="-1" strike="noStrike">
                <a:solidFill>
                  <a:srgbClr val="000000"/>
                </a:solidFill>
                <a:latin typeface="AGA Arabesque"/>
                <a:ea typeface="AGA Arabesque"/>
              </a:rPr>
              <a:t></a:t>
            </a:r>
            <a:r>
              <a:rPr b="0" lang="en-US" sz="4000" spc="-1" strike="noStrike">
                <a:solidFill>
                  <a:srgbClr val="000000"/>
                </a:solidFill>
                <a:latin typeface="Arial"/>
                <a:ea typeface="Arial"/>
              </a:rPr>
              <a:t> </a:t>
            </a:r>
            <a:r>
              <a:rPr b="0" lang="en-US" sz="3200" spc="-1" strike="noStrike">
                <a:solidFill>
                  <a:srgbClr val="000000"/>
                </a:solidFill>
                <a:latin typeface="Times New Roman"/>
              </a:rPr>
              <a:t> بألا  يجعل على الكفار، ولا يضيق صدره بهم فإنهم ممهلون إلى أجل قريب فلهم أيام معدودة لا يتقدمون عليها، ولا يتأخرون عنها، وكل شيء من أعمالهم محسوب عليهم ومعدود، فيا ويل من تعد عليه ذنوبه وأعماله وأنفاسه ثم يحاسب عليها الحساب العسير.</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فاوت حال الفريقين: المتقين والمجرمين؛ فالمتقون يحشرون إلى موقف القيامة مكرمين مبجلين معظمين فيفدون إلى الحمن راجين رحمته والفوز برضوانه، وأما المجرمون فإنهم يساقون إلى جهنم عطشاً وفي حالة من الذل والصغار لا تنفعهم شفاعة الشافعين لأنهم لم يتخذوا عند الله عهداً بالإيمان به وبرس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06:31:16Z</dcterms:created>
  <dc:creator>cultural-office</dc:creator>
  <dc:description/>
  <dc:language>en-US</dc:language>
  <cp:lastModifiedBy>cultural-office</cp:lastModifiedBy>
  <dcterms:modified xsi:type="dcterms:W3CDTF">2008-01-19T12:08:46Z</dcterms:modified>
  <cp:revision>5</cp:revision>
  <dc:subject/>
  <dc:title>الدرس التاسع</dc:title>
</cp:coreProperties>
</file>